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764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280-     1100  DPA6          CPA01CA6103348                   L       000000     2,116.6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 8.2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58.3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96.99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4,038-                                                                            81,563.56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960" y="6434280"/>
            <a:ext cx="877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                        4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5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60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6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560      1100  DPA6          CPA01CA6103364                           300018     3,987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 14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27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14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960" y="5519880"/>
            <a:ext cx="825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9,468                                                                              160,6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8960" y="6464160"/>
            <a:ext cx="888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K                                                                                                              6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392      1100  DPA6          CPA01CA6103364                   L       000000     2,79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 9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5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102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96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627                                                                           112,428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960" y="6464160"/>
            <a:ext cx="891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K                                                                                                               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10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12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71280"/>
          <a:ext cx="8915400" cy="67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"/>
                    <a:ext cx="891540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2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36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42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-104760"/>
          <a:ext cx="9144000" cy="69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476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38600" y="647712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  1 AK                                                                                                            50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41:18Z</dcterms:created>
  <dc:creator>Soldier Support Institute</dc:creator>
  <dc:description/>
  <dc:language>en-US</dc:language>
  <cp:lastModifiedBy>Administrator</cp:lastModifiedBy>
  <cp:lastPrinted>2001-09-24T14:53:52Z</cp:lastPrinted>
  <dcterms:modified xsi:type="dcterms:W3CDTF">2004-09-16T15:06:08Z</dcterms:modified>
  <cp:revision>16</cp:revision>
  <dc:subject/>
  <dc:title>STARCIPS INTERFACE LISTING</dc:title>
</cp:coreProperties>
</file>